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3D91-06F5-4017-9856-BAFBBD13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1A5C-D8EB-427B-817C-1AEC5AC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C8F6-7E74-4884-AEB5-6B00240F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41CE-DFC5-49E6-82C0-D28896CC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B0A-11A1-4903-82E5-19336BB0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435F-0C49-47B8-AC54-0E5CEB9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F95-1D1F-424D-9243-F13D033F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2F42-65EB-48C0-989F-3DC958F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135F-CCBC-4F87-975B-116347F1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2CE-585F-4F29-AB8E-CD012948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03CD-153D-4B6A-9603-0C0F464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6168-797D-479A-BCB2-4FBFC46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72EB-9A31-4CEE-BE30-4C758F4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67D-5250-492A-87DB-586D34C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8EC-019D-4ACB-894D-FA7DE2FC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E4DF-6541-4027-B3E4-C55A13AD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C247-FA7A-4C88-810B-37BEEA7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0F4B-43D1-459B-B0EB-0A05DAA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2712-6CF2-4FF4-AFBD-861A3944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66DC-3D8C-4292-B5CD-FBB04619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07BC-5A22-4860-BF8B-5D20B35D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6065-754D-440B-9BB0-097DEBC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1E01-A156-43CE-AF65-E7341A0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2D47-3686-4746-A9A0-7FC153F9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876-7F9E-4099-B23C-E2319DE0A2D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B816-FD77-48A3-B1EB-49570DAC673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35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м Бащин е небето нам -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ятели ще видим т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х, колко радост в онзи ч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ще видим наший Сп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чуем сладкий Негов глас! 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их е и мирен онзи бряг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може там да влезе враг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ътник тука умор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бъде там в мир съвърш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трах и смърт ще е спасен -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и Теб да стигнем, Боже, дай наший път е к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обител славна, в Твоя рай -наший път е към дом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Господ и в неб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всички Той ще завед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м вечен ще ни се 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ший път е към дом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2-25T08:35:56Z</dcterms:modified>
  <cp:revision>72</cp:revision>
  <dc:subject/>
  <dc:title>Slide 1</dc:title>
</cp:coreProperties>
</file>